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4.png" ContentType="image/png"/>
  <Override PartName="/ppt/media/image9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1.jpeg" ContentType="image/jpeg"/>
  <Override PartName="/ppt/media/image7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notesMasterIdLst>
    <p:notesMasterId r:id="rId12"/>
  </p:notes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notesMaster" Target="notesMasters/notesMaster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dt" idx="1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Click to move the slide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 type="ftr" idx="2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 type="sldNum" idx="3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9C60C-4B10-4B04-B7AD-A8AFD8F342F8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A2E4A-36C9-4C80-8351-09D77AF1EFF7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SA Afric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021B8-2FD7-4A1B-869E-072E72053E79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09.xml"/><Relationship Id="rId8" Type="http://schemas.openxmlformats.org/officeDocument/2006/relationships/slideLayout" Target="../slideLayouts/slideLayout110.xml"/><Relationship Id="rId9" Type="http://schemas.openxmlformats.org/officeDocument/2006/relationships/slideLayout" Target="../slideLayouts/slideLayout111.xml"/><Relationship Id="rId10" Type="http://schemas.openxmlformats.org/officeDocument/2006/relationships/slideLayout" Target="../slideLayouts/slideLayout112.xml"/><Relationship Id="rId11" Type="http://schemas.openxmlformats.org/officeDocument/2006/relationships/slideLayout" Target="../slideLayouts/slideLayout113.xml"/><Relationship Id="rId12" Type="http://schemas.openxmlformats.org/officeDocument/2006/relationships/slideLayout" Target="../slideLayouts/slideLayout114.xml"/><Relationship Id="rId13" Type="http://schemas.openxmlformats.org/officeDocument/2006/relationships/slideLayout" Target="../slideLayouts/slideLayout115.xml"/><Relationship Id="rId14" Type="http://schemas.openxmlformats.org/officeDocument/2006/relationships/slideLayout" Target="../slideLayouts/slideLayout116.xml"/><Relationship Id="rId15" Type="http://schemas.openxmlformats.org/officeDocument/2006/relationships/slideLayout" Target="../slideLayouts/slideLayout117.xml"/><Relationship Id="rId16" Type="http://schemas.openxmlformats.org/officeDocument/2006/relationships/slideLayout" Target="../slideLayouts/slideLayout118.xml"/><Relationship Id="rId17" Type="http://schemas.openxmlformats.org/officeDocument/2006/relationships/slideLayout" Target="../slideLayouts/slideLayout119.xml"/><Relationship Id="rId18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3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TextBox 3"/>
          <p:cNvSpPr/>
          <p:nvPr/>
        </p:nvSpPr>
        <p:spPr>
          <a:xfrm>
            <a:off x="0" y="304812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56734"/>
                </a:solidFill>
                <a:latin typeface="Calibri"/>
                <a:ea typeface="MS PGothic"/>
              </a:rPr>
              <a:t>Africa Research in Sustainable Intensification for the Next Gen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6734"/>
                </a:solidFill>
                <a:latin typeface="Calibri"/>
                <a:ea typeface="MS PGothic"/>
              </a:rPr>
              <a:t>africa-rising.n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8" name="Group 4"/>
          <p:cNvGrpSpPr/>
          <p:nvPr/>
        </p:nvGrpSpPr>
        <p:grpSpPr>
          <a:xfrm>
            <a:off x="1182600" y="5486400"/>
            <a:ext cx="7086600" cy="857160"/>
            <a:chOff x="1182600" y="5486400"/>
            <a:chExt cx="7086600" cy="857160"/>
          </a:xfrm>
        </p:grpSpPr>
        <p:pic>
          <p:nvPicPr>
            <p:cNvPr id="349" name="Picture 5" descr=""/>
            <p:cNvPicPr/>
            <p:nvPr/>
          </p:nvPicPr>
          <p:blipFill>
            <a:blip r:embed="rId2"/>
            <a:stretch/>
          </p:blipFill>
          <p:spPr>
            <a:xfrm>
              <a:off x="1182600" y="5486400"/>
              <a:ext cx="85752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0" name="Picture 12" descr="P:\logos\i\ifpri\IFPRI_Logo_Standard.jpg"/>
            <p:cNvPicPr/>
            <p:nvPr/>
          </p:nvPicPr>
          <p:blipFill>
            <a:blip r:embed="rId3"/>
            <a:stretch/>
          </p:blipFill>
          <p:spPr>
            <a:xfrm>
              <a:off x="4376520" y="5486400"/>
              <a:ext cx="47304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1" name="Picture 7" descr="P:\logos\i\iita\IITA_regular-sienna_with slogan (2).JPG"/>
            <p:cNvPicPr/>
            <p:nvPr/>
          </p:nvPicPr>
          <p:blipFill>
            <a:blip r:embed="rId4"/>
            <a:stretch/>
          </p:blipFill>
          <p:spPr>
            <a:xfrm>
              <a:off x="6911640" y="5569560"/>
              <a:ext cx="1357560" cy="681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52" name="Group 9"/>
          <p:cNvGrpSpPr/>
          <p:nvPr/>
        </p:nvGrpSpPr>
        <p:grpSpPr>
          <a:xfrm>
            <a:off x="1189080" y="6543720"/>
            <a:ext cx="7686720" cy="231120"/>
            <a:chOff x="1189080" y="6543720"/>
            <a:chExt cx="7686720" cy="231120"/>
          </a:xfrm>
        </p:grpSpPr>
        <p:sp>
          <p:nvSpPr>
            <p:cNvPr id="353" name="TextBox 6"/>
            <p:cNvSpPr/>
            <p:nvPr/>
          </p:nvSpPr>
          <p:spPr>
            <a:xfrm>
              <a:off x="1830240" y="6543720"/>
              <a:ext cx="70455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The presentation has a Creative Commons licence. You are free to re-use or distribute this work, provided credit is given to ILRI.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54" name="Picture 10" descr="P:\Pictures&amp;Resources\Icons\by-nc-sa.png"/>
            <p:cNvPicPr/>
            <p:nvPr/>
          </p:nvPicPr>
          <p:blipFill>
            <a:blip r:embed="rId5"/>
            <a:stretch/>
          </p:blipFill>
          <p:spPr>
            <a:xfrm>
              <a:off x="1189080" y="6554160"/>
              <a:ext cx="629640" cy="210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55" name="Picture 11" descr=""/>
          <p:cNvPicPr/>
          <p:nvPr/>
        </p:nvPicPr>
        <p:blipFill>
          <a:blip r:embed="rId6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99920" indent="-15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1996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7"/>
    <p:sldLayoutId id="2147483767" r:id="rId8"/>
    <p:sldLayoutId id="2147483768" r:id="rId9"/>
    <p:sldLayoutId id="2147483769" r:id="rId10"/>
    <p:sldLayoutId id="2147483770" r:id="rId11"/>
    <p:sldLayoutId id="2147483771" r:id="rId12"/>
    <p:sldLayoutId id="2147483772" r:id="rId13"/>
    <p:sldLayoutId id="2147483773" r:id="rId14"/>
    <p:sldLayoutId id="2147483774" r:id="rId15"/>
    <p:sldLayoutId id="2147483775" r:id="rId16"/>
    <p:sldLayoutId id="2147483776" r:id="rId17"/>
    <p:sldLayoutId id="2147483777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99920" indent="-15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1996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"/>
          <p:cNvPicPr/>
          <p:nvPr/>
        </p:nvPicPr>
        <p:blipFill>
          <a:blip r:embed="rId3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" descr=""/>
          <p:cNvPicPr/>
          <p:nvPr/>
        </p:nvPicPr>
        <p:blipFill>
          <a:blip r:embed="rId4"/>
          <a:stretch/>
        </p:blipFill>
        <p:spPr>
          <a:xfrm>
            <a:off x="1738440" y="5907240"/>
            <a:ext cx="5848200" cy="666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3" descr=""/>
          <p:cNvPicPr/>
          <p:nvPr/>
        </p:nvPicPr>
        <p:blipFill>
          <a:blip r:embed="rId3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3" descr=""/>
          <p:cNvPicPr/>
          <p:nvPr/>
        </p:nvPicPr>
        <p:blipFill>
          <a:blip r:embed="rId2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99920" indent="-15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1996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3" descr=""/>
          <p:cNvPicPr/>
          <p:nvPr/>
        </p:nvPicPr>
        <p:blipFill>
          <a:blip r:embed="rId2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99920" indent="-15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1996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TextBox 3"/>
          <p:cNvSpPr/>
          <p:nvPr/>
        </p:nvSpPr>
        <p:spPr>
          <a:xfrm>
            <a:off x="0" y="304812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56734"/>
                </a:solidFill>
                <a:latin typeface="Calibri"/>
                <a:ea typeface="MS PGothic"/>
              </a:rPr>
              <a:t>Africa Research in Sustainable Intensification for the Next Gen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6734"/>
                </a:solidFill>
                <a:latin typeface="Calibri"/>
                <a:ea typeface="MS PGothic"/>
              </a:rPr>
              <a:t>africa-rising.n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Group 4"/>
          <p:cNvGrpSpPr/>
          <p:nvPr/>
        </p:nvGrpSpPr>
        <p:grpSpPr>
          <a:xfrm>
            <a:off x="1182600" y="5486400"/>
            <a:ext cx="7086600" cy="857160"/>
            <a:chOff x="1182600" y="5486400"/>
            <a:chExt cx="7086600" cy="857160"/>
          </a:xfrm>
        </p:grpSpPr>
        <p:pic>
          <p:nvPicPr>
            <p:cNvPr id="302" name="Picture 5" descr=""/>
            <p:cNvPicPr/>
            <p:nvPr/>
          </p:nvPicPr>
          <p:blipFill>
            <a:blip r:embed="rId2"/>
            <a:stretch/>
          </p:blipFill>
          <p:spPr>
            <a:xfrm>
              <a:off x="1182600" y="5486400"/>
              <a:ext cx="85752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2" descr="P:\logos\i\ifpri\IFPRI_Logo_Standard.jpg"/>
            <p:cNvPicPr/>
            <p:nvPr/>
          </p:nvPicPr>
          <p:blipFill>
            <a:blip r:embed="rId3"/>
            <a:stretch/>
          </p:blipFill>
          <p:spPr>
            <a:xfrm>
              <a:off x="4376520" y="5486400"/>
              <a:ext cx="47304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7" descr="P:\logos\i\iita\IITA_regular-sienna_with slogan (2).JPG"/>
            <p:cNvPicPr/>
            <p:nvPr/>
          </p:nvPicPr>
          <p:blipFill>
            <a:blip r:embed="rId4"/>
            <a:stretch/>
          </p:blipFill>
          <p:spPr>
            <a:xfrm>
              <a:off x="6911640" y="5569560"/>
              <a:ext cx="1357560" cy="681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05" name="Group 9"/>
          <p:cNvGrpSpPr/>
          <p:nvPr/>
        </p:nvGrpSpPr>
        <p:grpSpPr>
          <a:xfrm>
            <a:off x="1189080" y="6543720"/>
            <a:ext cx="7686720" cy="231120"/>
            <a:chOff x="1189080" y="6543720"/>
            <a:chExt cx="7686720" cy="231120"/>
          </a:xfrm>
        </p:grpSpPr>
        <p:sp>
          <p:nvSpPr>
            <p:cNvPr id="306" name="TextBox 6"/>
            <p:cNvSpPr/>
            <p:nvPr/>
          </p:nvSpPr>
          <p:spPr>
            <a:xfrm>
              <a:off x="1830240" y="6543720"/>
              <a:ext cx="70455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The presentation has a Creative Commons licence. You are free to re-use or distribute this work, provided credit is given to ILRI.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07" name="Picture 10" descr="P:\Pictures&amp;Resources\Icons\by-nc-sa.png"/>
            <p:cNvPicPr/>
            <p:nvPr/>
          </p:nvPicPr>
          <p:blipFill>
            <a:blip r:embed="rId5"/>
            <a:stretch/>
          </p:blipFill>
          <p:spPr>
            <a:xfrm>
              <a:off x="1189080" y="6554160"/>
              <a:ext cx="629640" cy="210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08" name="Picture 11" descr=""/>
          <p:cNvPicPr/>
          <p:nvPr/>
        </p:nvPicPr>
        <p:blipFill>
          <a:blip r:embed="rId6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99920" indent="-15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1996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4.png"/><Relationship Id="rId3" Type="http://schemas.openxmlformats.org/officeDocument/2006/relationships/image" Target="../media/image10.jpeg"/><Relationship Id="rId4" Type="http://schemas.openxmlformats.org/officeDocument/2006/relationships/image" Target="../media/image5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/>
          </p:nvPr>
        </p:nvSpPr>
        <p:spPr>
          <a:xfrm>
            <a:off x="0" y="1371240"/>
            <a:ext cx="9144000" cy="1143000"/>
          </a:xfrm>
          <a:prstGeom prst="rect">
            <a:avLst/>
          </a:prstGeom>
          <a:solidFill>
            <a:srgbClr val="b3d6ac"/>
          </a:solidFill>
          <a:ln w="0">
            <a:noFill/>
          </a:ln>
        </p:spPr>
        <p:txBody>
          <a:bodyPr lIns="90000" rIns="90000" tIns="46800" bIns="46800" anchor="t">
            <a:normAutofit fontScale="24000"/>
          </a:bodyPr>
          <a:p>
            <a:pPr marL="273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INV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3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Bridging Activity Concept No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36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36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uthor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36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36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Arega Alen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36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Regis Chikow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36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Mateete Bekund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36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Irmgard Hoeschle-Zeled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3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8080" y="3885840"/>
            <a:ext cx="79250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14480"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14480"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14480"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14480"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14480"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Gill Sans"/>
              </a:rPr>
              <a:t>Lilongw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14480"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Gill Sans"/>
              </a:rPr>
              <a:t>13 June 2016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144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144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Gill Sans"/>
              </a:rPr>
              <a:t>Target EPAs &amp; beneficiari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144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ec182"/>
                </a:solidFill>
                <a:latin typeface="Gill Sans"/>
              </a:rPr>
              <a:t>NASFAM</a:t>
            </a:r>
            <a:r>
              <a:rPr b="0" lang="en-GB" sz="2400" spc="-1" strike="noStrike">
                <a:solidFill>
                  <a:srgbClr val="000000"/>
                </a:solidFill>
                <a:latin typeface="Gill Sans"/>
              </a:rPr>
              <a:t>; </a:t>
            </a:r>
            <a:r>
              <a:rPr b="1" lang="en-GB" sz="2400" spc="-1" strike="noStrike">
                <a:solidFill>
                  <a:srgbClr val="4ea5d8"/>
                </a:solidFill>
                <a:latin typeface="Gill Sans"/>
              </a:rPr>
              <a:t>CADECOM</a:t>
            </a:r>
            <a:r>
              <a:rPr b="0" lang="en-GB" sz="2400" spc="-1" strike="noStrike">
                <a:solidFill>
                  <a:srgbClr val="000000"/>
                </a:solidFill>
                <a:latin typeface="Gill Sans"/>
              </a:rPr>
              <a:t>; </a:t>
            </a:r>
            <a:r>
              <a:rPr b="1" lang="en-GB" sz="2400" spc="-1" strike="noStrike">
                <a:solidFill>
                  <a:srgbClr val="a088b7"/>
                </a:solidFill>
                <a:latin typeface="Gill Sans"/>
              </a:rPr>
              <a:t>FU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144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1" name=""/>
          <p:cNvGraphicFramePr/>
          <p:nvPr/>
        </p:nvGraphicFramePr>
        <p:xfrm>
          <a:off x="380880" y="1981080"/>
          <a:ext cx="8458200" cy="4907160"/>
        </p:xfrm>
        <a:graphic>
          <a:graphicData uri="http://schemas.openxmlformats.org/drawingml/2006/table">
            <a:tbl>
              <a:tblPr/>
              <a:tblGrid>
                <a:gridCol w="1409760"/>
                <a:gridCol w="1409760"/>
                <a:gridCol w="1409760"/>
                <a:gridCol w="1484280"/>
                <a:gridCol w="1335240"/>
                <a:gridCol w="1409400"/>
              </a:tblGrid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istri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 gridSpan="4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EPAs and number of beneficiaries in bracke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otal bene-ficiar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ngoch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tiya (607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a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atuli (1455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a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6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ching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icoshya (3460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a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lonyeni (4573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a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kindi (2725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a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75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tche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jolomole (217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a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njawira (13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a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lira (895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a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longw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yanja (1768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a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pingu (2509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a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ileka (520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fa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itsma (4067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fa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54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dz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ifumbwa (1407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9c3e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anyana (3884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9c3e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thipe (6312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fa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60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ed fairs Distric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 gridSpan="4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PAs and beneficiaries to be determin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/>
          </p:nvPr>
        </p:nvSpPr>
        <p:spPr>
          <a:xfrm>
            <a:off x="457200" y="25146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700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evelop the Project M&amp;E Plan (Logframe/Workplan developed at inception workshop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Agree methods of tracking and reporting achieve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alibri"/>
              </a:rPr>
              <a:t>Monitoring and Evaluatio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700200" y="228564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323232"/>
                </a:solidFill>
                <a:latin typeface="Old English Text MT"/>
              </a:rPr>
              <a:t>Thank you</a:t>
            </a:r>
            <a:endParaRPr b="0" lang="en-US" sz="9600" spc="-1" strike="noStrike">
              <a:solidFill>
                <a:srgbClr val="323232"/>
              </a:solidFill>
              <a:latin typeface="Calibri"/>
            </a:endParaRPr>
          </a:p>
        </p:txBody>
      </p:sp>
      <p:pic>
        <p:nvPicPr>
          <p:cNvPr id="425" name="Picture 2" descr=""/>
          <p:cNvPicPr/>
          <p:nvPr/>
        </p:nvPicPr>
        <p:blipFill>
          <a:blip r:embed="rId1"/>
          <a:stretch/>
        </p:blipFill>
        <p:spPr>
          <a:xfrm>
            <a:off x="1066680" y="5819760"/>
            <a:ext cx="685800" cy="75708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3" descr=""/>
          <p:cNvPicPr/>
          <p:nvPr/>
        </p:nvPicPr>
        <p:blipFill>
          <a:blip r:embed="rId2"/>
          <a:stretch/>
        </p:blipFill>
        <p:spPr>
          <a:xfrm>
            <a:off x="7243920" y="5867280"/>
            <a:ext cx="709560" cy="70956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11" descr="P:\logos\c\cimmyt\CIMMYT Logo.jpg"/>
          <p:cNvPicPr/>
          <p:nvPr/>
        </p:nvPicPr>
        <p:blipFill>
          <a:blip r:embed="rId3"/>
          <a:stretch/>
        </p:blipFill>
        <p:spPr>
          <a:xfrm>
            <a:off x="7118280" y="5057640"/>
            <a:ext cx="960480" cy="72072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12" descr="P:\logos\i\ifpri\IFPRI_Logo_Standard.jpg"/>
          <p:cNvPicPr/>
          <p:nvPr/>
        </p:nvPicPr>
        <p:blipFill>
          <a:blip r:embed="rId4"/>
          <a:stretch/>
        </p:blipFill>
        <p:spPr>
          <a:xfrm>
            <a:off x="2838600" y="5857920"/>
            <a:ext cx="390240" cy="70956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2" descr="P:\logos\i\ICRISAT\icrisat-logo.jpg"/>
          <p:cNvPicPr/>
          <p:nvPr/>
        </p:nvPicPr>
        <p:blipFill>
          <a:blip r:embed="rId5"/>
          <a:stretch/>
        </p:blipFill>
        <p:spPr>
          <a:xfrm>
            <a:off x="4510080" y="6037200"/>
            <a:ext cx="1506600" cy="56196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6" descr="AVRDC – The World Vegetable Center — avrdc.org"/>
          <p:cNvPicPr/>
          <p:nvPr/>
        </p:nvPicPr>
        <p:blipFill>
          <a:blip r:embed="rId6"/>
          <a:srcRect l="0" t="0" r="63858" b="0"/>
          <a:stretch/>
        </p:blipFill>
        <p:spPr>
          <a:xfrm>
            <a:off x="1066680" y="5148360"/>
            <a:ext cx="1967040" cy="53820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7" descr="P:\logos\i\iita\IITA_regular-sienna_with slogan (2).JPG"/>
          <p:cNvPicPr/>
          <p:nvPr/>
        </p:nvPicPr>
        <p:blipFill>
          <a:blip r:embed="rId7"/>
          <a:stretch/>
        </p:blipFill>
        <p:spPr>
          <a:xfrm>
            <a:off x="4191120" y="4444920"/>
            <a:ext cx="1123920" cy="56376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14" descr=""/>
          <p:cNvPicPr/>
          <p:nvPr/>
        </p:nvPicPr>
        <p:blipFill>
          <a:blip r:embed="rId8"/>
          <a:stretch/>
        </p:blipFill>
        <p:spPr>
          <a:xfrm>
            <a:off x="4145040" y="5191200"/>
            <a:ext cx="1569960" cy="67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/>
          </p:nvPr>
        </p:nvSpPr>
        <p:spPr>
          <a:xfrm>
            <a:off x="-76320" y="1294920"/>
            <a:ext cx="9296640" cy="8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114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Gill Sans"/>
              </a:rPr>
              <a:t>Backgroun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TextBox 2"/>
          <p:cNvSpPr/>
          <p:nvPr/>
        </p:nvSpPr>
        <p:spPr>
          <a:xfrm>
            <a:off x="152280" y="2286000"/>
            <a:ext cx="89154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rom USAID Presentation: What the bridging activity i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 u="sng">
                <a:solidFill>
                  <a:srgbClr val="156834"/>
                </a:solidFill>
                <a:uFillTx/>
                <a:latin typeface="Arial"/>
              </a:rPr>
              <a:t>Proviso for the CN Development </a:t>
            </a:r>
            <a:r>
              <a:rPr b="1" lang="en-GB" sz="3200" spc="-1" strike="noStrike" u="sng">
                <a:solidFill>
                  <a:srgbClr val="156834"/>
                </a:solidFill>
                <a:uFillTx/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156834"/>
                </a:solidFill>
                <a:latin typeface="Arial"/>
              </a:rPr>
              <a:t>Do not re-invent the wheel: adapt to and build upon the current project situation;  engage  and learn from current implementers of the INVC Project &amp; part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/>
          </p:nvPr>
        </p:nvSpPr>
        <p:spPr>
          <a:xfrm>
            <a:off x="456840" y="1295280"/>
            <a:ext cx="83818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ctivity Go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Reduce rural poverty through increased household incomes from soybean and groundnut production and market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Activity Objectiv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Inclusive agricultural sector growth, increased incomes, a diversified diet and improved soil health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Activity Component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601"/>
              </a:spcBef>
              <a:buClr>
                <a:srgbClr val="156734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Advancing value chain competitiven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601"/>
              </a:spcBef>
              <a:buClr>
                <a:srgbClr val="156734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Improving productiv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601"/>
              </a:spcBef>
              <a:buClr>
                <a:srgbClr val="156734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apacity development (embedde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/>
          </p:nvPr>
        </p:nvSpPr>
        <p:spPr>
          <a:xfrm>
            <a:off x="0" y="990360"/>
            <a:ext cx="906768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1072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Advancing value chain competitivenes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228600" y="1600200"/>
          <a:ext cx="8839080" cy="5219640"/>
        </p:xfrm>
        <a:graphic>
          <a:graphicData uri="http://schemas.openxmlformats.org/drawingml/2006/table">
            <a:tbl>
              <a:tblPr/>
              <a:tblGrid>
                <a:gridCol w="3649680"/>
                <a:gridCol w="2838600"/>
                <a:gridCol w="235080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ected resul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de5c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utput indicato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bcc9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utcome indicato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9b268"/>
                    </a:solidFill>
                  </a:tcPr>
                </a:tc>
              </a:tr>
              <a:tr h="483516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spcAft>
                          <a:spcPts val="26"/>
                        </a:spcAft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Increased marketing as a result of improved end-market competitiveness and tra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spcAft>
                          <a:spcPts val="26"/>
                        </a:spcAft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Increased access to market information and financial service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spcAft>
                          <a:spcPts val="26"/>
                        </a:spcAft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Increased commercial relationships in the value chains, including  vertical coordination of smallholders and 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spcAft>
                          <a:spcPts val="26"/>
                        </a:spcAft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Increased household incomes and asse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spcAft>
                          <a:spcPts val="26"/>
                        </a:spcAft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Increased lending to smallholder farmers and other value chain participa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5c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spcAft>
                          <a:spcPts val="26"/>
                        </a:spcAft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Volume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 and </a:t>
                      </a: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value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 of soybean &amp; gnut sold in the domestic marke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spcAft>
                          <a:spcPts val="26"/>
                        </a:spcAft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Value of agriculture and rural loans disbursed to smallholder farmers and small busines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spcAft>
                          <a:spcPts val="26"/>
                        </a:spcAft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Number of smallholder farmers, SMEs, producer organizations, and trade and business associations receiving marketing and business development servic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cc9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lue of incremental sales of soybeans and groundnuts attributed to project implementatio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oss margin per hectare of soybean and groundnut production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ily per capita expenditures of project beneficiar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b26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/>
          </p:nvPr>
        </p:nvSpPr>
        <p:spPr>
          <a:xfrm>
            <a:off x="609480" y="9140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8676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Gill Sans"/>
              </a:rPr>
              <a:t>Activit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09" name=""/>
          <p:cNvGraphicFramePr/>
          <p:nvPr/>
        </p:nvGraphicFramePr>
        <p:xfrm>
          <a:off x="76320" y="1665360"/>
          <a:ext cx="8991360" cy="5164200"/>
        </p:xfrm>
        <a:graphic>
          <a:graphicData uri="http://schemas.openxmlformats.org/drawingml/2006/table">
            <a:tbl>
              <a:tblPr/>
              <a:tblGrid>
                <a:gridCol w="2997000"/>
                <a:gridCol w="5994360"/>
              </a:tblGrid>
              <a:tr h="496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tivit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de5c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b-activiti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bcc9a"/>
                    </a:solidFill>
                  </a:tcPr>
                </a:tc>
              </a:tr>
              <a:tr h="1051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 </a:t>
                      </a:r>
                      <a:r>
                        <a:rPr b="0" lang="en-GB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dentify market activities for farmers, traders &amp; processors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5c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</a:t>
                      </a:r>
                      <a:r>
                        <a:rPr b="0" lang="en-GB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ssess domestic market demand and opportunities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2</a:t>
                      </a:r>
                      <a:r>
                        <a:rPr b="0" lang="en-GB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Facilitate business relationships between farmers &amp;          buyers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cc9a"/>
                    </a:solidFill>
                  </a:tcPr>
                </a:tc>
              </a:tr>
              <a:tr h="1722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 </a:t>
                      </a:r>
                      <a:r>
                        <a:rPr b="0" lang="en-GB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acilitate access to market information and collective marketing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5c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1</a:t>
                      </a:r>
                      <a:r>
                        <a:rPr b="0" lang="en-GB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Promote market information centres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2</a:t>
                      </a:r>
                      <a:r>
                        <a:rPr b="0" lang="en-GB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Strengthen market information systems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3</a:t>
                      </a:r>
                      <a:r>
                        <a:rPr b="0" lang="en-GB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Expand market opportunities and options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4</a:t>
                      </a:r>
                      <a:r>
                        <a:rPr b="0" lang="en-GB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Promote community-level product aggregation &amp; bulking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cc9a"/>
                    </a:solidFill>
                  </a:tcPr>
                </a:tc>
              </a:tr>
              <a:tr h="857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 </a:t>
                      </a:r>
                      <a:r>
                        <a:rPr b="0" lang="en-GB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acilitate access to information services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5c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1</a:t>
                      </a:r>
                      <a:r>
                        <a:rPr b="0" lang="en-GB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Link farmers to financial institutions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2</a:t>
                      </a:r>
                      <a:r>
                        <a:rPr b="0" lang="en-GB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Facilitate bank lending through credit guarantees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cc9a"/>
                    </a:solidFill>
                  </a:tcPr>
                </a:tc>
              </a:tr>
              <a:tr h="1036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 </a:t>
                      </a:r>
                      <a:r>
                        <a:rPr b="0" lang="en-GB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mote household food processing, utilisation and storage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5c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cc9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/>
          </p:nvPr>
        </p:nvSpPr>
        <p:spPr>
          <a:xfrm>
            <a:off x="0" y="1066320"/>
            <a:ext cx="906768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Improving agricultural productivit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152280" y="1905120"/>
          <a:ext cx="8839440" cy="4406760"/>
        </p:xfrm>
        <a:graphic>
          <a:graphicData uri="http://schemas.openxmlformats.org/drawingml/2006/table">
            <a:tbl>
              <a:tblPr/>
              <a:tblGrid>
                <a:gridCol w="3649680"/>
                <a:gridCol w="2838600"/>
                <a:gridCol w="235116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ected resul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9ea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utput indicato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3d6a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utcome indicato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ec182"/>
                    </a:solidFill>
                  </a:tcPr>
                </a:tc>
              </a:tr>
              <a:tr h="401004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51"/>
                        </a:spcAft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9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Increased yields for legumes and associated crops by at least 50%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51"/>
                        </a:spcAft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9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Increased access to, and use of productivity-enhancing technologies by male and female smallholders 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51"/>
                        </a:spcAft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9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Enhanced implementation of better soil fertility management, water conservation practices and other GAPs by male and female smallholders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a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9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Increased volume of grain legume products available for household consumption, dietary diversity and marketing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9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Increased land area under legume crop production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Volume of improved seed, rhizobia and other inputs used at HH level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9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.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3d6a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ize production increased through intensification approaches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re diversified and steady food supply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creased income from sale of legumes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c18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/>
          </p:nvPr>
        </p:nvSpPr>
        <p:spPr>
          <a:xfrm>
            <a:off x="0" y="1066320"/>
            <a:ext cx="906768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Improving agricultural productivity cont’d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52280" y="1905120"/>
          <a:ext cx="8839440" cy="4190760"/>
        </p:xfrm>
        <a:graphic>
          <a:graphicData uri="http://schemas.openxmlformats.org/drawingml/2006/table">
            <a:tbl>
              <a:tblPr/>
              <a:tblGrid>
                <a:gridCol w="3649680"/>
                <a:gridCol w="2838600"/>
                <a:gridCol w="235116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ected resul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9ea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utput indicato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3d6a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utcome indicato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ec182"/>
                    </a:solidFill>
                  </a:tcPr>
                </a:tc>
              </a:tr>
              <a:tr h="379404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51"/>
                        </a:spcAft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9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Enhanced use of agricultural extension and advisory services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a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Constructed water resource management structures 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Number of implemented GAPS for increased productivity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9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Increased farmer capacity to practice and transfer knowledge and information on legume cropping GAPs.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3d6a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anded, more diversified income sources from new enterprises and employment opportunities related to legume value chain development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c18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/>
          </p:nvPr>
        </p:nvSpPr>
        <p:spPr>
          <a:xfrm>
            <a:off x="609480" y="9140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8676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Gill Sans"/>
              </a:rPr>
              <a:t>Activit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76320" y="1665360"/>
          <a:ext cx="8839080" cy="4887720"/>
        </p:xfrm>
        <a:graphic>
          <a:graphicData uri="http://schemas.openxmlformats.org/drawingml/2006/table">
            <a:tbl>
              <a:tblPr/>
              <a:tblGrid>
                <a:gridCol w="8839080"/>
              </a:tblGrid>
              <a:tr h="534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9ead5"/>
                    </a:solidFill>
                  </a:tcPr>
                </a:tc>
              </a:tr>
              <a:tr h="1388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abling farmers’ access to improved seed using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proaches piloted by INV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ed fairs, tapping into CRS experien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ad5"/>
                    </a:solidFill>
                  </a:tcPr>
                </a:tc>
              </a:tr>
              <a:tr h="9604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APs technology delivery and transfer working with lead farmers, supervised by researchers and extension staf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3d6ac"/>
                    </a:solidFill>
                  </a:tcPr>
                </a:tc>
              </a:tr>
              <a:tr h="1001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mproved advisory services and extension delivery systems, driven by hands-on training of lead farmer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ad5"/>
                    </a:solidFill>
                  </a:tcPr>
                </a:tc>
              </a:tr>
              <a:tr h="100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vironmental mitigation through demonstration of climate smart practices and emphasising climate-smart messages during training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3d6a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/>
          </p:nvPr>
        </p:nvSpPr>
        <p:spPr>
          <a:xfrm>
            <a:off x="0" y="1371240"/>
            <a:ext cx="9144000" cy="609480"/>
          </a:xfrm>
          <a:prstGeom prst="rect">
            <a:avLst/>
          </a:prstGeom>
          <a:solidFill>
            <a:srgbClr val="fde5cd"/>
          </a:solidFill>
          <a:ln w="9360">
            <a:solidFill>
              <a:srgbClr val="fde5cd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1144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"/>
              </a:rPr>
              <a:t>High potential, high achiever 15 EPAs in 5 distric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7" name="Picture 2" descr="C:\Users\IZeledon\Desktop\SoybeanProduction.png"/>
          <p:cNvPicPr/>
          <p:nvPr/>
        </p:nvPicPr>
        <p:blipFill>
          <a:blip r:embed="rId1"/>
          <a:stretch/>
        </p:blipFill>
        <p:spPr>
          <a:xfrm>
            <a:off x="457200" y="1992240"/>
            <a:ext cx="3809880" cy="4648320"/>
          </a:xfrm>
          <a:prstGeom prst="rect">
            <a:avLst/>
          </a:prstGeom>
          <a:ln w="0">
            <a:noFill/>
          </a:ln>
        </p:spPr>
      </p:pic>
      <p:sp>
        <p:nvSpPr>
          <p:cNvPr id="418" name="TextBox 3"/>
          <p:cNvSpPr/>
          <p:nvPr/>
        </p:nvSpPr>
        <p:spPr>
          <a:xfrm>
            <a:off x="4343400" y="4321080"/>
            <a:ext cx="426708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ed Fairs to be conducted in the districts o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Balaka, Mangochi, Maching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Box 4"/>
          <p:cNvSpPr/>
          <p:nvPr/>
        </p:nvSpPr>
        <p:spPr>
          <a:xfrm>
            <a:off x="3124080" y="91440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Target Are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2T08:14:19Z</dcterms:created>
  <dc:creator>IZELEDON</dc:creator>
  <dc:description/>
  <dc:language>en-US</dc:language>
  <cp:lastModifiedBy>Mateete</cp:lastModifiedBy>
  <cp:lastPrinted>2011-10-06T11:45:23Z</cp:lastPrinted>
  <dcterms:modified xsi:type="dcterms:W3CDTF">2016-06-13T06:20:03Z</dcterms:modified>
  <cp:revision>149</cp:revision>
  <dc:subject/>
  <dc:title>Slide 1</dc:title>
</cp:coreProperties>
</file>